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1D7D-5F98-4021-89DC-E34AB1FC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064C-7BD1-4F8C-A333-A4117F7F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D14-2169-4837-BF43-204B7283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7299-6B6F-41BB-91B8-0C05566B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44A9-17B1-49A9-89F0-B6DA5312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62FE-5FFE-43D0-ABD3-CFFDA9CB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F437-00D6-4CAC-BE06-513F3B5D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ACDF-4CA2-4858-BD33-CED9A4D5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F099-D440-412A-B152-AB23D964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7369-FAE1-40B3-BC4E-79B034BC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3B62-B0DC-428E-AB1F-2EABDC21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2EA-F41E-4BA8-B3FB-0CCBD009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21F9-6180-4580-84EF-E4F92A6E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D3B5-2FB4-4A43-8111-07AD5EF1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6893-3EFA-4554-AEB7-083E2C32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165D-D7CD-4ED9-BF89-580FD31A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8613-2B0C-4A63-A6BA-0210A957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FC08-0C75-45E0-807D-5520F305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C7C-F228-42BC-966B-2A0AE50E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498C-8492-425E-904B-07F67B2C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5EF-1B62-4CEC-B8C3-15749974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55E-BD62-45BF-A5FC-EC3A15FA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C420-2242-4825-A374-01B150B1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B23-D2B5-4BB2-A71C-5B9A4D4D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5E06-6225-46B0-9329-F697CD8A885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246B-9EC1-4F80-BC62-03DBCA257BF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dbbd71"/>
                </a:solidFill>
                <a:uFillTx/>
                <a:latin typeface="Arial"/>
              </a:rPr>
              <a:t>Writing in Ancient Egypt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18960" y="4267080"/>
            <a:ext cx="7086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NIEL INTRIAGO AND RUSHABH KAMD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y, How, and When Egyptian Writing was Inven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Egyptian Writing Materi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Mystery Unlocked: The Rosetta Ston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re You Would Find Egyptian Wri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2504880" cy="3132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705720" y="0"/>
            <a:ext cx="2135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What material did the ancient Egyptians invent to write on more easi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2438280"/>
            <a:ext cx="72388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-Cut C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pyrus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Ruined Cl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What is the ancient paper made of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2057400"/>
            <a:ext cx="60195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ogenized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y and s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pyrus r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pyrus sk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Why did Egyptian scribes create a form of writing at firs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286000"/>
            <a:ext cx="71629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people can’t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keep track of the kingdom’s 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keep record of 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use they needed to send 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Where was the Rosetta Stone foun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2133720"/>
            <a:ext cx="3200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2133720"/>
            <a:ext cx="5715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outhern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ahara Des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osetta Des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ose garden near the Nile 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1752480"/>
            <a:ext cx="64767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What are the three forms of writing on the Rosetta Ston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2286000"/>
            <a:ext cx="7086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man, Algonquian, and Gr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tic, Hieroglyphics, and Ind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eroglyphics, Demotic, and Gr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 rot="5400000">
            <a:off x="-1186200" y="3243240"/>
            <a:ext cx="53053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hanks for Watchi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057400" y="5943600"/>
            <a:ext cx="6143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We Hope You Enjoyed I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 rot="2377800">
            <a:off x="3047760" y="53316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 rot="13494600">
            <a:off x="2895120" y="21330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Why, How, and When Egyptian Writing was Invented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: The Egyptian scribes needed to keep record of the wealth of Egyp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: The Egyptians at first came up with symbols standing for something. As the  kingdom grew, more symbols had to be invented for the complic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: The first hieroglyphics were found on pottery and were dated back to about 3100 BC(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429000" y="4724280"/>
            <a:ext cx="19749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905120" y="304920"/>
            <a:ext cx="51051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gyptian Writing To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350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object written on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51814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is an old form of paper that the Egyptians used called papyrus paper, made from papyrus r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962520" y="3200400"/>
            <a:ext cx="1412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6200" y="2971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object written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88620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object that Egyptians wrote with was an old type of pen made of a re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14400" y="121932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gyptian Writing Tools (Continued)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54864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nk was black, indestructible, and made by mixing water, soot, and vegetable gu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291456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 Mystery Unlocked: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osetta Ston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16765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ncient Egyptian hieroglyphics were lost around the year 400 AD (CE). A soldier found a stone near the city of Rosetta, near the Nile delta. It was named the Rosetta St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124080" y="3124080"/>
            <a:ext cx="2867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Rosetta Stone (Continued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76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setta Stone has three languages. The uppermost text is known as Egyptian hieroglyphic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30481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iddle writing is known as a later Egyptian writing called demotic, which is not as significant as Egyptian hieroglyph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876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ower part of the Rosetta Stone contains Greek wri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752480" y="76212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Funny Part I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297180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f the languages have the same meaning written on the Rosetta Ston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518148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ird, hu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05120" y="1447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n the other hand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23623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uess wh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752480" y="1676520"/>
            <a:ext cx="5977080" cy="28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iz Time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00:34:52Z</dcterms:created>
  <dc:creator>Rushabh Kamdar</dc:creator>
  <dc:description/>
  <dc:language>en-US</dc:language>
  <cp:lastModifiedBy>User</cp:lastModifiedBy>
  <dcterms:modified xsi:type="dcterms:W3CDTF">2009-01-29T22:33:02Z</dcterms:modified>
  <cp:revision>7</cp:revision>
  <dc:subject/>
  <dc:title>Writing in Ancient Egypt </dc:title>
</cp:coreProperties>
</file>